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122-233F-4729-B758-F130FDEA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E8C-47B7-4BD0-86AD-989909BC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C8C-95CE-4571-8B5B-14E6B9D4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56F-5A94-41D1-ADFB-ED126901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91B-4E08-4E56-8D5A-17422DEE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648-8A29-4C1D-A617-F1F3B62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185-72F5-4B05-A9FF-B9699F6C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A96-AD90-4309-B1C8-70748349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E59-2A9E-4486-B8C4-6D3CF65F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3D9-3A04-4DB1-9107-073820D5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4BE-A6E6-498E-9552-E861ACB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ACB-D403-4D36-A525-CCBF84BC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19A7-45A2-4B7A-9922-E657457D1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老男人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y Gabe 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门开派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unting.jpg picture by partypooper13"/>
          <p:cNvPicPr/>
          <p:nvPr/>
        </p:nvPicPr>
        <p:blipFill>
          <a:blip r:embed="rId1"/>
          <a:stretch/>
        </p:blipFill>
        <p:spPr>
          <a:xfrm>
            <a:off x="2209680" y="19810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-99072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个老男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chascreek.blogs.com/a_doodle_a_day/images/old_man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91280" cy="563868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-9907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喜欢在山上散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oldasianman.jpg old asian man picture by Pacoiscool"/>
          <p:cNvPicPr/>
          <p:nvPr/>
        </p:nvPicPr>
        <p:blipFill>
          <a:blip r:embed="rId1"/>
          <a:stretch/>
        </p:blipFill>
        <p:spPr>
          <a:xfrm>
            <a:off x="4572000" y="1981080"/>
            <a:ext cx="297180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zakopane-life.com/media/pics/tatra-mountains-zakopane.jpg"/>
          <p:cNvPicPr/>
          <p:nvPr/>
        </p:nvPicPr>
        <p:blipFill>
          <a:blip r:embed="rId2"/>
          <a:stretch/>
        </p:blipFill>
        <p:spPr>
          <a:xfrm>
            <a:off x="228600" y="24382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3"/>
          <a:stretch/>
        </p:blipFill>
        <p:spPr>
          <a:xfrm>
            <a:off x="-106668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天他看四个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henry.mpls.k12.mn.us/sites/40ffb804-cceb-41db-92d5-ed0b7a6eb987/uploads/SelfMade2.jpg"/>
          <p:cNvPicPr/>
          <p:nvPr/>
        </p:nvPicPr>
        <p:blipFill>
          <a:blip r:embed="rId1"/>
          <a:stretch/>
        </p:blipFill>
        <p:spPr>
          <a:xfrm>
            <a:off x="5334120" y="220968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draw.joshmillard.com/img/what-is-he-looking-at.jpg"/>
          <p:cNvPicPr/>
          <p:nvPr/>
        </p:nvPicPr>
        <p:blipFill>
          <a:blip r:embed="rId2"/>
          <a:stretch/>
        </p:blipFill>
        <p:spPr>
          <a:xfrm>
            <a:off x="457200" y="2209680"/>
            <a:ext cx="3898800" cy="389916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3"/>
          <a:stretch/>
        </p:blipFill>
        <p:spPr>
          <a:xfrm>
            <a:off x="-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不认识他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earchengineconsultant.files.wordpress.com/2008/12/confused.jpg"/>
          <p:cNvPicPr/>
          <p:nvPr/>
        </p:nvPicPr>
        <p:blipFill>
          <a:blip r:embed="rId1"/>
          <a:stretch/>
        </p:blipFill>
        <p:spPr>
          <a:xfrm>
            <a:off x="1066680" y="144792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henry.mpls.k12.mn.us/sites/40ffb804-cceb-41db-92d5-ed0b7a6eb987/uploads/SelfMade2.jpg"/>
          <p:cNvPicPr/>
          <p:nvPr/>
        </p:nvPicPr>
        <p:blipFill>
          <a:blip r:embed="rId2"/>
          <a:stretch/>
        </p:blipFill>
        <p:spPr>
          <a:xfrm>
            <a:off x="4876920" y="198108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-14479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你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ghostofbenjaminholt.com/uploaded_images/Old%20Man-763063.jpg"/>
          <p:cNvPicPr/>
          <p:nvPr/>
        </p:nvPicPr>
        <p:blipFill>
          <a:blip r:embed="rId1"/>
          <a:stretch/>
        </p:blipFill>
        <p:spPr>
          <a:xfrm>
            <a:off x="3124080" y="2362320"/>
            <a:ext cx="298152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1295280" y="1676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什么都没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不喜欢老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henry.mpls.k12.mn.us/sites/40ffb804-cceb-41db-92d5-ed0b7a6eb987/uploads/SelfMade2.jpg"/>
          <p:cNvPicPr/>
          <p:nvPr/>
        </p:nvPicPr>
        <p:blipFill>
          <a:blip r:embed="rId1"/>
          <a:stretch/>
        </p:blipFill>
        <p:spPr>
          <a:xfrm>
            <a:off x="3164040" y="2646360"/>
            <a:ext cx="3084480" cy="380376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-9907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老男人跑到他房子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macclesfield-harriers.co.uk/mh/photo/fraRelays2005/Old%20man%20of%20the%20hills.jpg"/>
          <p:cNvPicPr/>
          <p:nvPr/>
        </p:nvPicPr>
        <p:blipFill>
          <a:blip r:embed="rId1"/>
          <a:stretch/>
        </p:blipFill>
        <p:spPr>
          <a:xfrm>
            <a:off x="472428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geocities.com/carmelacolavecchio/mountain_houseJPG.jpg"/>
          <p:cNvPicPr/>
          <p:nvPr/>
        </p:nvPicPr>
        <p:blipFill>
          <a:blip r:embed="rId2"/>
          <a:stretch/>
        </p:blipFill>
        <p:spPr>
          <a:xfrm>
            <a:off x="304920" y="3429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3"/>
          <a:stretch/>
        </p:blipFill>
        <p:spPr>
          <a:xfrm>
            <a:off x="-91440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老男人有两朋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38.jpg"/>
          <p:cNvPicPr/>
          <p:nvPr/>
        </p:nvPicPr>
        <p:blipFill>
          <a:blip r:embed="rId1"/>
          <a:stretch/>
        </p:blipFill>
        <p:spPr>
          <a:xfrm>
            <a:off x="1600200" y="1828800"/>
            <a:ext cx="5969160" cy="39751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-9144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8:15Z</dcterms:created>
  <dc:creator>itsuser</dc:creator>
  <dc:description/>
  <dc:language>en-US</dc:language>
  <cp:lastModifiedBy>itsuser</cp:lastModifiedBy>
  <dcterms:modified xsi:type="dcterms:W3CDTF">2009-04-09T16:13:40Z</dcterms:modified>
  <cp:revision>9</cp:revision>
  <dc:subject/>
  <dc:title>老男人  By Gabe Ward</dc:title>
</cp:coreProperties>
</file>